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D98-9AD0-4245-9CF8-5FC9D327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6DA-EB27-4B64-BD0C-0C5DDBF9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47D-19A2-481F-81F4-49F660CA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8BC-630E-442B-82FC-037DDBDB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D5B3-231C-4021-87C4-79B812E5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0280-FC3E-4ED5-A0AC-7C8CDFE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53BF-EB11-4F80-9DCF-68D119E1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F77E-A25A-463F-BE31-DD35FDC8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EA8D-14BE-4E38-A584-39DF1A54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86B5-98B2-4CE4-831E-E7DF4331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861D-6DC2-46EF-BE49-064E08C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AC6-CE6A-498C-B8B3-45224A73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8B6B-BD97-4F97-99E4-9E7D6EB2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9EA-4C9B-4726-8FEE-00AE0B6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7861-B949-4F3F-95DB-A3183D55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AB17-BE08-402F-A01F-45122F37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56D4-61C7-40AA-A0B4-F2F7EF30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9F3-37A9-43D9-9B7B-230A7A3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621-320D-40C3-A937-C19267B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27E-E827-421F-AB12-619168E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064-BE80-42AA-B7AC-EEBEFE3A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364-2C9D-40C2-AA72-6220077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EB3-EF03-489C-B7C6-625D099A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980-C4E6-41A1-82F9-686EEA4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D0DB-E013-4A91-9329-C483E09F92F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95F-A04C-4E19-BE96-001F99E3915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3; Lesson 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3 – 4; Pages 129-13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Days of 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tory of Rut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we are studying the Bible story that has a “thread” of continuity from Adam to Chr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and Naomi, Boaz and Ruth make up an important part of God’s pl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brings to an end the time period called “The Judg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xt – “The United Kingdom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4495680"/>
            <a:ext cx="3505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, Naomi and their two sons moved to Moab because of fam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ir sons married Moab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elech and the two sons d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moved to back to Bethlehem with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gleaned in the fields of Boaz, a near kinsman of Elimele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reated Ruth with many fav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omi Plans For Ruth’s Futur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3:1-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, being kin, has a right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redeem Elimelech’s property, an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take Ruth for a wif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’s plan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uth to “bathe” and dress 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fter Boaz finishes winnowing and after dinner, she is to lay around his feet as he slee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did as instruc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startled to find a woman at his fe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asked Boaz to “redeem” 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Responded Favorably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3:9-1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 reputation – a virtuous wo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liked the idea of redeeming her, bu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as a closer kin to redeem h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ould redeem her if closer kin did no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uth sent awa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ill da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gave her a lot of barley for Naom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omi asked her to be pati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deeming Part of the Jubilee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Lev. 25:8-55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98760"/>
            <a:ext cx="87631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land sold, it was returned in year of jubi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land sold because of poverty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nearest kin could redeem 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could buy it back, if he prospered later 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 would be returned to him at jubil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proposed the redeeming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imelech and Naomi possessed the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omi – now widowed and p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495680"/>
            <a:ext cx="38862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uty of a Brother to a Widow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Num. 27:9-11;  Deut. 25:5-10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a man died without an heir, his widow not to marry outside the fami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r husband’s brother to fulfill the duty to carry on the dead brother’s na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the brother refused, the widow went before the elders, took off one of his shoes and spat in his f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used Elimelech’s land and Mahlon’s widow to fit these two procedures of la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5486400"/>
            <a:ext cx="3809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Arranges To Marry Ruth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4:1-6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met the closer kin in front of ten elders of the city in a public pl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old him that Naomi was selling the parcel of land that belonged to Elimele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– “I will redeem it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then said that Ruth went with the deal to raise up an inheritance for Mahl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refused to redeem because it would mess up his own inherit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oaz Marries Ruth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uth 4:7-22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38332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loser kin gave Boaz his sho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az made a public declaration before witnesses of his buying the land and marrying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eople blessed Boaz and Ru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were marr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had a child, Ob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68824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ed became the father of Jesse who became the father of Dav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alogy of Obed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s to David: Israel greatest 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nects to Christ: Spiritual Israel greatest 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724280"/>
            <a:ext cx="3505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1:16:58Z</dcterms:created>
  <dc:creator>Frank D Vines</dc:creator>
  <dc:description/>
  <dc:language>en-US</dc:language>
  <cp:lastModifiedBy>Frank D Vines</cp:lastModifiedBy>
  <dcterms:modified xsi:type="dcterms:W3CDTF">2005-03-27T03:01:21Z</dcterms:modified>
  <cp:revision>16</cp:revision>
  <dc:subject/>
  <dc:title>The Story of Ruth</dc:title>
</cp:coreProperties>
</file>